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2FF-1EDE-4360-8478-906C58F0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777-5B93-4649-8DC6-EE74851B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55C-DF7B-4F35-9A78-6A276C5F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05C-D26F-447A-8CB5-A1AC69C0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7E5-3D09-4C4A-A50E-694AFFD1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FFE-71A2-46F1-9C79-FAC4E366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279-C4BD-43C8-87C9-6838354A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45E-2EE7-4FDB-BC46-D0837EBE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D38-BF06-4F68-BCB2-E8ED8B5E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F23-1C0D-42CD-B539-15BC5E1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5F2-468D-4C52-992A-729DD3D2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83F-DFD7-49D3-A013-27C7E2B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F61E-6239-437F-9FE8-9C80CA0AA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matter be changed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the sun's position and the earth’s axis and revolution cause seasons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are there four seasons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 the seasons occur at opposite times in the northern and southern hemisphe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are the seasons of winter, spring, summer, and fall not in areas along the Equator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some of the differences and/or similarities between the seas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seasons affect the life cycles of living thing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are changes in day/night length related to seasonal changes in plants, animals, and fung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ere do light, heat, and motion energy come from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detect the presence of light energ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detect the presence of heat energ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the properties of matt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detect the presence of motion energ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we use the energy of motion, heat, and ligh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makes things mov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move something far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are forces need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push like a pull? Differen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ere is it easier to pull thing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surfaces make moving things easi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speed affected by push and pull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es speed chang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we classify matter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is gravity important in our daily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motion be describ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use forc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es the sun shine during the day, but is not there at nigh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es the sun appear to move across the sky from east to wes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are shadows on Earth affected by the Su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the Sun's changing position change shadow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es the moon appear to move across the sk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causes the moon to appear to change shapes each month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the moon get its ligh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we describe ma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the moon a satellit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the Earth's shadow affect the mo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a sundial work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happens to the length of the day and night as the seasons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the difference and similarities between plants, animals, and fungi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a living thing go through a life cycl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are life cycles different between organisms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a plant develop from a small seed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seasons affect the life cycles of living thing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are changes in day/night length related to seasonal changes in plants and animal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changes affect matt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some of the ways matter can change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ater be a solid, liquid, and a g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measure and predict changes in weather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he Sun cause Earth’s weather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3:59:04Z</dcterms:created>
  <dc:creator>Abby Owens</dc:creator>
  <dc:description/>
  <dc:language>en-US</dc:language>
  <cp:lastModifiedBy>Abby Owens</cp:lastModifiedBy>
  <dcterms:modified xsi:type="dcterms:W3CDTF">2010-05-28T00:18:30Z</dcterms:modified>
  <cp:revision>38</cp:revision>
  <dc:subject/>
  <dc:title>PowerPoint Presentation</dc:title>
</cp:coreProperties>
</file>